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23C-5042-4D7E-95E8-D198838A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F0D-76B6-452C-AC69-D79F132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AA4-9F01-4EAA-8AE6-B5F29693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CC1-EE3A-4D31-9374-4CC52DAE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E6895-C18F-49BD-847A-D6D413E2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65D07-9DD6-4BCE-9FEF-5A1306E9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22597-4F5F-4144-B2CB-77EE4055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E3F9B-D14C-4A64-B897-197F87F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691F9-43F0-4D81-9015-35AA8D5A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26504-868B-4DEE-AF0F-DDCDDC40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A7DC-882E-486F-BFD9-8051BA0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439-AF0E-4D74-806D-D93DFDA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74F69-C7F5-44B3-878C-B7EA7FCD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895F8-242A-4A22-B0D7-722B3B8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9303-394A-4C87-B160-AAD815F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8EEF2-6197-44C4-A52D-12128602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47BAB-C234-4585-B056-C52D589F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231-7891-4A9B-A306-26854F1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CCB-6A2C-4BC1-A0FA-0BD7EFD5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92B-745A-47FC-9B55-6921D04C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34F-F3C8-4582-A886-044B3624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CD3-CC0F-492F-A821-F232385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BB3-2686-41A5-BA48-5BFF3DB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34F-72C5-43AC-92C2-0512A087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EDAB-958D-4044-B1DE-88E845168F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8930-866A-4D4D-A72C-E4FA4C0E3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50states.com/NorthDakot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northdakota.html" TargetMode="Externa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62720" y="46483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487692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Per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Computer 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0"/>
            <a:ext cx="83822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Imprint MT Shadow"/>
              </a:rPr>
              <a:t>North Dakota </a:t>
            </a:r>
            <a:endParaRPr b="0" lang="en-US" sz="1800" spc="1" strike="noStrike">
              <a:ln w="12600">
                <a:solidFill>
                  <a:srgbClr val="99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665680"/>
            <a:ext cx="312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0 States,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Chicago song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, 10/7/2010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50states.com/NorthDako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4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102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tates name is North Dak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is Bismar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population is 642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this state entered the union it was November 2, 18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he nickname for the state is pea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arden/Flicker state/Sioux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71920" y="3200400"/>
            <a:ext cx="467208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2514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99"/>
                </a:solidFill>
                <a:latin typeface="Tahoma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457200"/>
            <a:ext cx="82296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The main bird for the state is the Western Meadow L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The theme song is North Dakota h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The Meaning behind the name is that its an Indian tribal name meaning ’’Alliance Friends’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ahoma"/>
              </a:rPr>
              <a:t>Some interesting facts about North Dakota it is the 47th most populous state in the U.S.A there was also battle for land and the Indians Once lived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North Dakota: Map and State Flag"/>
          <p:cNvPicPr/>
          <p:nvPr/>
        </p:nvPicPr>
        <p:blipFill>
          <a:blip r:embed="rId2"/>
          <a:srcRect l="13460" t="0" r="12075" b="60013"/>
          <a:stretch/>
        </p:blipFill>
        <p:spPr>
          <a:xfrm>
            <a:off x="152280" y="0"/>
            <a:ext cx="3657600" cy="2286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46483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n’s guide to U.S government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Quick Facts: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North Dakota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/22/2010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bensguide.gpo.gov/3-5/state/northdakota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181480" y="152280"/>
            <a:ext cx="3962520" cy="1994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67480" y="0"/>
            <a:ext cx="16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cc"/>
                </a:solidFill>
                <a:latin typeface="Tahoma"/>
              </a:rPr>
              <a:t>Clip ar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8616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018200" y="4741920"/>
            <a:ext cx="2125800" cy="2116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21388200">
            <a:off x="5638320" y="1371600"/>
            <a:ext cx="2746440" cy="149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3178080" cy="304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43600" y="4038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20Z</dcterms:created>
  <dc:creator>install</dc:creator>
  <dc:description/>
  <dc:language>en-US</dc:language>
  <cp:lastModifiedBy>install</cp:lastModifiedBy>
  <dcterms:modified xsi:type="dcterms:W3CDTF">2010-10-14T15:21:23Z</dcterms:modified>
  <cp:revision>9</cp:revision>
  <dc:subject/>
  <dc:title>Slide 1</dc:title>
</cp:coreProperties>
</file>